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6A9D-8005-4D74-BB32-88F522189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ort.spb.ru/nesh/njshome.htm" TargetMode="External"/><Relationship Id="rId2" Type="http://schemas.openxmlformats.org/officeDocument/2006/relationships/hyperlink" Target="http://www.ort.spb.ru/nesh/njshome.htm" TargetMode="External"/><Relationship Id="rId3" Type="http://schemas.openxmlformats.org/officeDocument/2006/relationships/hyperlink" Target="http://www.ort.spb.ru/nesh/njshome.htm" TargetMode="External"/><Relationship Id="rId4" Type="http://schemas.openxmlformats.org/officeDocument/2006/relationships/hyperlink" Target="http://www.ort.spb.ru/nesh/njshome.htm" TargetMode="External"/><Relationship Id="rId5" Type="http://schemas.openxmlformats.org/officeDocument/2006/relationships/hyperlink" Target="http://www.ort.spb.ru/nesh/njshome.htm" TargetMode="External"/><Relationship Id="rId6" Type="http://schemas.openxmlformats.org/officeDocument/2006/relationships/hyperlink" Target="http://www.ort.spb.ru/nesh/njshome.htm" TargetMode="External"/><Relationship Id="rId7" Type="http://schemas.openxmlformats.org/officeDocument/2006/relationships/hyperlink" Target="http://www.ort.spb.ru/nesh/njshome.htm" TargetMode="External"/><Relationship Id="rId8" Type="http://schemas.openxmlformats.org/officeDocument/2006/relationships/hyperlink" Target="http://www.ort.spb.ru/nesh/njshome.htm" TargetMode="External"/><Relationship Id="rId9" Type="http://schemas.openxmlformats.org/officeDocument/2006/relationships/hyperlink" Target="http://www.ort.spb.ru/nesh/njshome.htm" TargetMode="External"/><Relationship Id="rId10" Type="http://schemas.openxmlformats.org/officeDocument/2006/relationships/hyperlink" Target="http://www.ort.spb.ru/nesh/njshome.htm" TargetMode="External"/><Relationship Id="rId11" Type="http://schemas.openxmlformats.org/officeDocument/2006/relationships/hyperlink" Target="http://www.ort.spb.ru/nesh/njshome.htm" TargetMode="External"/><Relationship Id="rId12" Type="http://schemas.openxmlformats.org/officeDocument/2006/relationships/hyperlink" Target="http://www.ort.spb.ru/nesh/njshome.htm" TargetMode="External"/><Relationship Id="rId13" Type="http://schemas.openxmlformats.org/officeDocument/2006/relationships/hyperlink" Target="http://www.ort.spb.ru/nesh/njshome.htm" TargetMode="External"/><Relationship Id="rId14" Type="http://schemas.openxmlformats.org/officeDocument/2006/relationships/hyperlink" Target="http://www.ort.spb.ru/nesh/njshome.htm" TargetMode="External"/><Relationship Id="rId15" Type="http://schemas.openxmlformats.org/officeDocument/2006/relationships/hyperlink" Target="http://www.ort.spb.ru/nesh/njshome.htm" TargetMode="External"/><Relationship Id="rId16" Type="http://schemas.openxmlformats.org/officeDocument/2006/relationships/slide" Target="../slides/slide34.xml"/><Relationship Id="rId17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 - Шевах Златопольский, школа Ор-Авнер Гершун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лмат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перепечатке материалов не забудьте поставить ссылку на наш сайт: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ort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spb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ru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nesh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2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njshome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5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A2E-DB7F-40BE-B745-E721ABB4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C99-6BFC-4D84-A523-08E61AD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8F7-99DD-4CDD-A149-AFFD01AB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9C2-6849-4A8E-8431-EC2B365B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223-64D7-433B-BAF8-317ECC9B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3412-8FAF-42D8-ABA1-F521749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429-320D-4B77-ABA9-C7863F6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B5FD-B20D-4224-882B-3C97FE2B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E05-A64F-406E-83A5-A85169D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631-0360-4905-9AA2-62B4EB42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1934-EB5B-4E8E-A827-5729213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452-3EA5-42D8-88AF-65B5590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3DF-A495-4518-9BBA-A3A6E3A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B4F-A223-4B47-A1C2-E72ABB4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A1A4-12D8-4B0F-A56F-6EFB1D4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B72E-90B1-4423-83C9-C50183ED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4C34-BAF2-4464-BDD4-0C80EA8B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9B7-AE2C-41C8-BCAE-68D1F1F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24C-E0D3-453B-9336-43E970F9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0FB-F634-40E7-9CCF-2E8DE19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AF4-F8E2-4217-B600-17CEAA4B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849-C1FD-4FD1-B106-881CE7E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BE6-4CF8-43E1-A84B-3C24CD5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A4E-A4B2-4DA0-BECD-1A0E7F98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077-8CD6-41F8-B937-D759264CF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76B7-93BE-46DF-A260-4BC20AF5C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ort.spb.ru/nesh/njshome.ht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b2b2b2"/>
                </a:solidFill>
                <a:latin typeface="Arial"/>
              </a:rPr>
              <a:t>Знание Единого Б-г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63640" y="3429000"/>
            <a:ext cx="58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ли язычеств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Стали называть людей и идолов именем Святого, благословен Он, то есть делать их объектом идолопоклонства и называть их божествам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делайте вывод: ответьте на вопрос, когда люди стали придумывать себе идол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71640" y="1052640"/>
            <a:ext cx="486576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чем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, что по этому поводу пишет Раби Моше бен Маймон (РАМБАМ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 дни Эноша люди совершили огромную ошибку. Мудрецам того поколения пришла в голову очень глупая идея. И сам Энош был в числе заблуждавших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от в чем была их ошибка. Сказали они: «Раз Б-г создал эти звезды и созвездия, чтобы они управляли миром, определил им место так высоко в небесах и наделил таким почетом, а они все – Его слуги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значит их тоже нужно прославлять и восхвалять, и воздавать им почести…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Пришла эта мысль в их сердце, и стали они строить для звезд дворцы и приносить им жертвы, и прославлять их, и делать их изображения, и падать перед ними ниц, чтобы те помогли этим людям понравиться Творцу, как они думали по глупости сво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ая идея привела людей к страшному грех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43160" y="1916280"/>
            <a:ext cx="64576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идол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полонил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есь мир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58920" y="1773360"/>
            <a:ext cx="633744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раньше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И распространилось это по всему миру: служить идолам в самых разных формах и приносить им жертвы, и преклоняться перед ни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Прошли многие годы, и забыли люди во всем мир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с-вышнего, великого и грозного, и перестали признавать Ег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люди тех поколений вообще забыли про своего Создател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заблуждения привели людей к сочинению миф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помните из того, что вы изучали в школе, из книг, фильмов, рассказов – к каким страшным последствиям приводили мифы и идолопоклонств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судите в группах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52760" y="1125360"/>
            <a:ext cx="56912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едник -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а мир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чтите в книге Берешит стихи 5:21-24, 6: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прожил Ханох шестьдесят лет и пять лет, и породил он Метушелаха. И ходил Ханох с Б-гом после рождения им Метушелаха триста лет и шестьдесят пять лет. И ходил Ханох с Б-гом, и не стало его, ибо взял его Б-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т порожденные Ноахом: Ноах мужем праведным, цельным был в своих поколениях; с Б-гом ходил Но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чезло ли совсем из мира знание о Едином Б-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, что пишет об этом дальше РАМБА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Не было в мире никого, кто знал бы Твердыню всех миров, кроме всего-навсего нескольких человек: Ханоха и Метушелаха, Ноаха, Шема и Эв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Так все и продолжалось, пока не родился тот, на ком держится сегодня весь цивилизованный мир – праотец наш Авра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те в книге Берешит стихи 1:27-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сотворил Б-г человека в его образе, в образе Б-жьем сотворил Он его; мужчиной и женщиной сотворил Он 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благословил их Б-г и сказал им Б-г: Плодитесь и умножайтесь, и наполняйте землю, и покоряйте ее, и властвуйте над рыбой морской и над птицей небесной, и над всяким животным, что ползает по земл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ишите имена праведников от Адама до праотца нашего Авраама, знавших о Едином Творце, благословен О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е знание является основой, на которой держался и держится весь ми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000" y="981000"/>
            <a:ext cx="712800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מרבה תורה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מרבה חיים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404640"/>
            <a:ext cx="792000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множающ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чение Вс-вышнего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множает жизнь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5760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  <a:ea typeface="Arial"/>
              </a:rPr>
              <a:t>Автор - Шевах Златопольский, школа Ор-Авнер Гершуни,</a:t>
            </a:r>
            <a:br>
              <a:rPr sz="4000"/>
            </a:br>
            <a:r>
              <a:rPr b="1" lang="ru-RU" sz="4000" spc="-1" strike="noStrike">
                <a:solidFill>
                  <a:srgbClr val="cc9900"/>
                </a:solidFill>
                <a:latin typeface="Arial"/>
                <a:ea typeface="Arial"/>
              </a:rPr>
              <a:t>Алматы.</a:t>
            </a:r>
            <a:r>
              <a:rPr b="0" lang="ru-RU" sz="4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010199"/>
                </a:solidFill>
                <a:latin typeface="Arial"/>
                <a:ea typeface="Arial"/>
              </a:rPr>
              <a:t>При перепечатке материалов не забудьте поставить ссылку на наш сайт:</a:t>
            </a:r>
            <a:br>
              <a:rPr sz="2800"/>
            </a:b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http://www.ort.spb.ru/nesh/njshome.htm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в книге Берешит стихи 4:3-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было по прошествии дней, и принес Каин от плодов земли дар Господ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Эвель, принес также и он от первородных стада своего и от их туков. И призрел Господь на Эвеля и на его д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ираясь на текст, ответьте на вопрос: знали ли люди в самом начале о существовании Единого Вс-вышне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иши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в книге Берешит стихи 4:25-2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познал Адам еще жену свою, и родила она сына, и нарекла ему имя Шет; потому что поставил мне Б-г потомка другого вместо Эвеля, ибо убил его Ка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у Шета также родился сын, и он нарек ему имя Энош. Тогда стали нарекать именем Госп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ветьте в тетради на вопрос: кто такой Энош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 комментарий Рабби Шломо Ицхаки (РАШИ)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2b2b2"/>
                </a:solidFill>
                <a:uFillTx/>
                <a:latin typeface="Arial"/>
              </a:rPr>
              <a:t>«тогда начали»</a:t>
            </a:r>
            <a:br>
              <a:rPr sz="4400"/>
            </a:br>
            <a:r>
              <a:rPr b="0" i="1" lang="he-IL" sz="4400" spc="-1" strike="noStrike">
                <a:solidFill>
                  <a:srgbClr val="66ff33"/>
                </a:solidFill>
                <a:latin typeface="Arial"/>
                <a:cs typeface="Arial"/>
              </a:rPr>
              <a:t>הוחל</a:t>
            </a:r>
            <a:br>
              <a:rPr sz="4400"/>
            </a:br>
            <a:r>
              <a:rPr b="0" i="1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со значением</a:t>
            </a:r>
            <a:br>
              <a:rPr sz="4400"/>
            </a:br>
            <a:r>
              <a:rPr b="0" i="1" lang="he-IL" sz="4400" spc="-1" strike="noStrike">
                <a:solidFill>
                  <a:srgbClr val="66ff33"/>
                </a:solidFill>
                <a:latin typeface="Arial"/>
                <a:cs typeface="Arial"/>
              </a:rPr>
              <a:t>חולין</a:t>
            </a:r>
            <a:br>
              <a:rPr sz="4400"/>
            </a:br>
            <a:r>
              <a:rPr b="0" i="1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(профанация)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хул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ù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 русском языке от ивритского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e-IL" sz="4000" spc="-1" strike="noStrike">
                <a:solidFill>
                  <a:srgbClr val="ffffff"/>
                </a:solidFill>
                <a:latin typeface="Arial"/>
                <a:cs typeface="Arial"/>
              </a:rPr>
              <a:t>חול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будничный)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антонима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he-IL" sz="4000" spc="-1" strike="noStrike">
                <a:solidFill>
                  <a:srgbClr val="ffffff"/>
                </a:solidFill>
                <a:latin typeface="Arial"/>
                <a:cs typeface="Arial"/>
              </a:rPr>
              <a:t>קדוש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святой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фанировать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– превращать святое в будничн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09:58Z</dcterms:created>
  <dc:creator>Shevah</dc:creator>
  <dc:description/>
  <dc:language>en-US</dc:language>
  <cp:lastModifiedBy>Андрей Ширяев</cp:lastModifiedBy>
  <dcterms:modified xsi:type="dcterms:W3CDTF">2002-10-22T12:02:43Z</dcterms:modified>
  <cp:revision>10</cp:revision>
  <dc:subject/>
  <dc:title>Знание Единого Б-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