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3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30.png" ContentType="image/png"/>
  <Override PartName="/ppt/media/image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448-A0F0-4BC4-8F8D-426F9BA05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8809-8676-497F-AFCD-F08CADA7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1BAB-4663-40DC-A83C-B00C8A63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23E-6912-4871-B382-C1AF48F0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493D-82EF-4A7B-BBDD-A67FFB9C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0386-E878-463E-9410-EDF987DD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8108-3849-44A6-961D-C671B019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68A0-959D-4857-82FF-65D852CF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03A8-191E-4849-873C-DBB1AB63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6999-A63C-4D2A-8A3D-BCA785C7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9CDF-49EE-4FBF-85DA-2AD1ACCA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4C0-11B6-479C-BC15-AD6C3F74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2A46-3BD5-441F-8769-4D793B65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94E78-F4FB-4575-815C-AF96F417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B686-4228-4DAB-B281-ECED2ACC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D170-F9BD-442B-9C38-21A730174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9B2F-CDD3-4005-93E5-4D636180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80A-882C-4213-AEB2-70A3784C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BCE-34CB-4EFC-A261-2437795B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C84-EADC-4FD5-9E3D-EF63EA32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86B2-65E1-4FA4-B418-84298611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AA7E-A1B1-420E-A3D2-94A74A27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E81E-5A93-4E78-92DB-998D15E3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914-9578-4208-AA5A-DC5F9DE7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EA3B-CEE6-4A06-B63F-B432657C280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9F71-30B5-4664-A07C-EC03A86153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rt.spb.ru/nesh/njshome.htm" TargetMode="External"/><Relationship Id="rId3" Type="http://schemas.openxmlformats.org/officeDocument/2006/relationships/hyperlink" Target="http://www.ort.spb.ru/nesh/njshome.htm" TargetMode="External"/><Relationship Id="rId4" Type="http://schemas.openxmlformats.org/officeDocument/2006/relationships/hyperlink" Target="http://www.ort.spb.ru/nesh/njshome.htm" TargetMode="External"/><Relationship Id="rId5" Type="http://schemas.openxmlformats.org/officeDocument/2006/relationships/hyperlink" Target="http://www.ort.spb.ru/nesh/njshome.htm" TargetMode="External"/><Relationship Id="rId6" Type="http://schemas.openxmlformats.org/officeDocument/2006/relationships/hyperlink" Target="http://www.ort.spb.ru/nesh/njshome.htm" TargetMode="External"/><Relationship Id="rId7" Type="http://schemas.openxmlformats.org/officeDocument/2006/relationships/hyperlink" Target="http://www.ort.spb.ru/nesh/njshome.htm" TargetMode="External"/><Relationship Id="rId8" Type="http://schemas.openxmlformats.org/officeDocument/2006/relationships/hyperlink" Target="http://www.ort.spb.ru/nesh/njshome.htm" TargetMode="External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8497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7e7ff"/>
                </a:solidFill>
                <a:latin typeface="Arial"/>
              </a:rPr>
              <a:t>СОТВОРЕНИЕ МИРА</a:t>
            </a:r>
            <a:endParaRPr b="0" lang="en-US" sz="8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31640" y="5634000"/>
            <a:ext cx="73040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кресная школа «Нер Ли»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C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Ростов-на-Дон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325080" y="3429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казал Всесильный: «Да стекается вода, что под небом в одно место, и да явится суша». И стало так. И назвал Всесильный сушу землею, а стечение вод назвал морями. И увидел Всесильный, что это хорош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ТРЕТИ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казал Всесильный: «Да произрастит земля зелень. Траву семеноносную, дерево плодовитое…». И стало так. И увидел Всесильный, что это хорошо. И был вечер и было у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55280" y="1052640"/>
            <a:ext cx="748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начале сотворения Всесильным неба и земли, когда земля была пуста и нестройна, и тьма над бездною, а дух Всесильного парил над водою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7600" y="2637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o be continued 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ЧЕТВЕРТ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40464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казал Всесильный: «Да будут светила в пространстве неба для отделения дня от ночи, да будут они знамениями и для времен и для дней и годов. И да будут они светилами в пространстве небесном, чтобы светить на землю…». И стало так… И увидел Всесильный, что это хорошо. И был вечер и было у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9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3250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ПЯТ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сказал Всесильный: «Да воскешит вода кишением живых существ и птица да летают по пространству небесному…»… И увидел Всесильный, что это хорошо. И благословил их Всесильный сказав, «Плодитесь и размножайтесь…». И был вечер и было у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-9360"/>
            <a:ext cx="7619760" cy="68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49360" y="333360"/>
            <a:ext cx="459900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4280" y="0"/>
            <a:ext cx="671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657360"/>
            <a:ext cx="7619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1400040"/>
            <a:ext cx="761976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71680" y="571680"/>
            <a:ext cx="44006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20304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казал Всесильный: «Да произведет земля существа живые по роду их…» И стало так… И увидел Всесильный что это хорош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5400" y="115920"/>
            <a:ext cx="6762600" cy="67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4508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ОДИ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казал Всесильный: «Да будет свет», и стал свет. И увидел Всесильный свет, что он хорош и отделил свет от тьмы. И назвал Всесильный свет днем, а тьму назвал ночью. И был вечер и было у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38160"/>
            <a:ext cx="761976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147600"/>
            <a:ext cx="761976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71800" y="433440"/>
            <a:ext cx="43718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494136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ШЕСТО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691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сказал Всесильный: «Создадим человека по образу нашему, по подобию нашему и да владычествуют они над рыбою морскою и над птицами небесными, и над скотом, и над всею землею…»… И сотворил Всесильный, человека по образу своему…, мужчину и женщину сотворил их. И благословил их… И видел Всесильный все, что он создал и вот весьма хорошо. И был вечер и было ут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340000" y="101520"/>
            <a:ext cx="4317840" cy="671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завершены были небо и земля, и весь сонм их. И завершил Всесильный в седьмой день дело свое, которое он созидал и почил в день седьмой от всего произведения своего, которое он созидал. И благословил Всесильный день седьмой и освятил его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20760" y="115920"/>
            <a:ext cx="666432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243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 перепечатке материалов не забудьте поставить ссылку на наше издание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www.ort.spb.ru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nesh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/</a:t>
            </a:r>
            <a:r>
              <a:rPr b="0" lang="ru-RU" sz="18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njshome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44370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ДЕНЬ ВТОРО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 сказал Всесильный: «Да будет пространство посреди воды…». И назвал Всесильный пространство небом и был вечер и было утр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15:48:37Z</dcterms:created>
  <dc:creator>Mama</dc:creator>
  <dc:description/>
  <dc:language>en-US</dc:language>
  <cp:lastModifiedBy>Nina</cp:lastModifiedBy>
  <dcterms:modified xsi:type="dcterms:W3CDTF">2005-06-26T14:04:25Z</dcterms:modified>
  <cp:revision>22</cp:revision>
  <dc:subject/>
  <dc:title>СОТВОРЕНИЕ МИРА</dc:title>
</cp:coreProperties>
</file>