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2CA8-1244-4C24-830E-69ED6B6B80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hyperlink" Target="http://www.ort.spb.ru/nesh/njshome.htm" TargetMode="External"/><Relationship Id="rId2" Type="http://schemas.openxmlformats.org/officeDocument/2006/relationships/hyperlink" Target="http://www.ort.spb.ru/nesh/njshome.htm" TargetMode="External"/><Relationship Id="rId3" Type="http://schemas.openxmlformats.org/officeDocument/2006/relationships/hyperlink" Target="http://www.ort.spb.ru/nesh/njshome.htm" TargetMode="External"/><Relationship Id="rId4" Type="http://schemas.openxmlformats.org/officeDocument/2006/relationships/hyperlink" Target="http://www.ort.spb.ru/nesh/njshome.htm" TargetMode="External"/><Relationship Id="rId5" Type="http://schemas.openxmlformats.org/officeDocument/2006/relationships/hyperlink" Target="http://www.ort.spb.ru/nesh/njshome.htm" TargetMode="External"/><Relationship Id="rId6" Type="http://schemas.openxmlformats.org/officeDocument/2006/relationships/hyperlink" Target="http://www.ort.spb.ru/nesh/njshome.htm" TargetMode="External"/><Relationship Id="rId7" Type="http://schemas.openxmlformats.org/officeDocument/2006/relationships/hyperlink" Target="http://www.ort.spb.ru/nesh/njshome.htm" TargetMode="External"/><Relationship Id="rId8" Type="http://schemas.openxmlformats.org/officeDocument/2006/relationships/hyperlink" Target="http://www.ort.spb.ru/nesh/njshome.htm" TargetMode="External"/><Relationship Id="rId9" Type="http://schemas.openxmlformats.org/officeDocument/2006/relationships/hyperlink" Target="http://www.ort.spb.ru/nesh/njshome.htm" TargetMode="External"/><Relationship Id="rId10" Type="http://schemas.openxmlformats.org/officeDocument/2006/relationships/hyperlink" Target="http://www.ort.spb.ru/nesh/njshome.htm" TargetMode="External"/><Relationship Id="rId11" Type="http://schemas.openxmlformats.org/officeDocument/2006/relationships/hyperlink" Target="http://www.ort.spb.ru/nesh/njshome.htm" TargetMode="External"/><Relationship Id="rId12" Type="http://schemas.openxmlformats.org/officeDocument/2006/relationships/hyperlink" Target="http://www.ort.spb.ru/nesh/njshome.htm" TargetMode="External"/><Relationship Id="rId13" Type="http://schemas.openxmlformats.org/officeDocument/2006/relationships/hyperlink" Target="http://www.ort.spb.ru/nesh/njshome.htm" TargetMode="External"/><Relationship Id="rId14" Type="http://schemas.openxmlformats.org/officeDocument/2006/relationships/hyperlink" Target="http://www.ort.spb.ru/nesh/njshome.htm" TargetMode="External"/><Relationship Id="rId15" Type="http://schemas.openxmlformats.org/officeDocument/2006/relationships/hyperlink" Target="http://www.ort.spb.ru/nesh/njshome.htm" TargetMode="External"/><Relationship Id="rId16" Type="http://schemas.openxmlformats.org/officeDocument/2006/relationships/slide" Target="../slides/slide34.xml"/><Relationship Id="rId17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р - Шевах Златопольский, школа Ор-Авнер Гершун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лмат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 перепечатке материалов не забудьте поставить ссылку на наш сайт: 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http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://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4"/>
              </a:rPr>
              <a:t>.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ort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.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7"/>
              </a:rPr>
              <a:t>spb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8"/>
              </a:rPr>
              <a:t>.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9"/>
              </a:rPr>
              <a:t>ru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0"/>
              </a:rPr>
              <a:t>/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1"/>
              </a:rPr>
              <a:t>nesh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2"/>
              </a:rPr>
              <a:t>/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3"/>
              </a:rPr>
              <a:t>njshome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4"/>
              </a:rPr>
              <a:t>.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5"/>
              </a:rPr>
              <a:t>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29E-3BE5-4DF6-8E4C-7D925404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4F99-249B-4B3B-A6D0-289892E1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B99-920E-4D21-9563-EB686B34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C60-1E3F-4E74-9BC6-B472E2B9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A349-4643-4567-8FA0-17692E9D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5CA6-A846-4297-A665-04985320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28EA-280E-430C-9774-93E7DB7C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028F-DBB1-40DF-BB73-F5B19A8E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637F-2AEA-4EDF-A84E-5BBEC745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2EB3-3750-4F1D-814B-6814D35A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17E8-A234-4C8A-A3D2-62190FA5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A1B5-F231-4F8A-9E1C-82B06CBA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E758-C03F-4561-ADD4-0391889C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9880-CE20-4E51-AD1E-086A67FA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BCEE-3973-4FCC-9271-12E5919E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F3A9-BFB0-4CFF-BFF7-A52C2DB6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C487-6595-4C65-960E-E16FC3D7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E47F-E898-48C5-8691-2B78FA69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A98-74B6-4E5E-8EF7-C640F9C4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286-7982-4EEC-BC66-6CC81631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0E1-A100-47DA-9A4D-851B4B88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039-6678-4AEC-9711-73C96FAC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3AF-232D-4003-A430-81DE104B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780-4196-46B7-B795-4B54F7E1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6CFD-74F0-47FE-9C95-1D8DEC43BD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6BCD-5A96-4BE7-8A88-BAC4EAADB8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ort.spb.ru/nesh/njshome.htm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b2b2b2"/>
                </a:solidFill>
                <a:latin typeface="Arial"/>
              </a:rPr>
              <a:t>Знание Единого Б-г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63640" y="3429000"/>
            <a:ext cx="5832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ли язычество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Arial"/>
                <a:ea typeface="Arial"/>
              </a:rPr>
              <a:t>Стали называть людей и идолов именем Святого, благословен Он, то есть делать их объектом идолопоклонства и называть их божествами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делайте вывод: ответьте на вопрос, когда люди стали придумывать себе идол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771640" y="1052640"/>
            <a:ext cx="4865760" cy="28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чему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чтите, что по этому поводу пишет Раби Моше бен Маймон (РАМБАМ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Arial"/>
              </a:rPr>
              <a:t>В дни Эноша люди совершили огромную ошибку. Мудрецам того поколения пришла в голову очень глупая идея. И сам Энош был в числе заблуждавших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Arial"/>
              </a:rPr>
              <a:t>Вот в чем была их ошибка. Сказали они: «Раз Б-г создал эти звезды и созвездия, чтобы они управляли миром, определил им место так высоко в небесах и наделил таким почетом, а они все – Его слуги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Arial"/>
              </a:rPr>
              <a:t>значит их тоже нужно прославлять и восхвалять, и воздавать им почести…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Arial"/>
              </a:rPr>
              <a:t>Пришла эта мысль в их сердце, и стали они строить для звезд дворцы и приносить им жертвы, и прославлять их, и делать их изображения, и падать перед ними ниц, чтобы те помогли этим людям понравиться Творцу, как они думали по глупости сво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ая идея привела людей к страшному грех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343160" y="1916280"/>
            <a:ext cx="64576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к идолы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полонили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есь мир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58920" y="1773360"/>
            <a:ext cx="633744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то раньше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Arial"/>
              </a:rPr>
              <a:t>И распространилось это по всему миру: служить идолам в самых разных формах и приносить им жертвы, и преклоняться перед ни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Arial"/>
              </a:rPr>
              <a:t>Прошли многие годы, и забыли люди во всем мир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66ff33"/>
                </a:solidFill>
                <a:latin typeface="Arial"/>
              </a:rPr>
              <a:t>Вс-вышнего, великого и грозного, и перестали признавать Ег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люди тех поколений вообще забыли про своего Создател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ие заблуждения привели людей к сочинению мифов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помните из того, что вы изучали в школе, из книг, фильмов, рассказов – к каким страшным последствиям приводили мифы и идолопоклонств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бсудите в группах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552760" y="1125360"/>
            <a:ext cx="569124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едник -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а мира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чтите в книге Берешит стихи 5:21-24, 6:9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 прожил Ханох шестьдесят лет и пять лет, и породил он Метушелаха. И ходил Ханох с Б-гом после рождения им Метушелаха триста лет и шестьдесят пять лет. И ходил Ханох с Б-гом, и не стало его, ибо взял его Б-г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т порожденные Ноахом: Ноах мужем праведным, цельным был в своих поколениях; с Б-гом ходил Но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чезло ли совсем из мира знание о Едином Б-г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чтите, что пишет об этом дальше РАМБАМ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Arial"/>
              </a:rPr>
              <a:t>Не было в мире никого, кто знал бы Твердыню всех миров, кроме всего-навсего нескольких человек: Ханоха и Метушелаха, Ноаха, Шема и Эвер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ff33"/>
                </a:solidFill>
                <a:latin typeface="Arial"/>
              </a:rPr>
              <a:t>Так все и продолжалось, пока не родился тот, на ком держится сегодня весь цивилизованный мир – праотец наш Авраа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йдите в книге Берешит стихи 1:27-28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 сотворил Б-г человека в его образе, в образе Б-жьем сотворил Он его; мужчиной и женщиной сотворил Он и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 благословил их Б-г и сказал им Б-г: Плодитесь и умножайтесь, и наполняйте землю, и покоряйте ее, и властвуйте над рыбой морской и над птицей небесной, и над всяким животным, что ползает по земл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пишите имена праведников от Адама до праотца нашего Авраама, знавших о Едином Творце, благословен Он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ое знание является основой, на которой держался и держится весь ми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00000" y="981000"/>
            <a:ext cx="712800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מרבה תורה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מרבה חיים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55640" y="404640"/>
            <a:ext cx="7920000" cy="554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utami"/>
              </a:rPr>
              <a:t>Умножающий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utami"/>
              <a:ea typeface="Gauta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utami"/>
              </a:rPr>
              <a:t>Учение Вс-вышнего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utami"/>
              <a:ea typeface="Gauta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utami"/>
              </a:rPr>
              <a:t>умножает жизнь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utami"/>
              <a:ea typeface="Gauta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65760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1371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00"/>
                </a:solidFill>
                <a:latin typeface="Arial"/>
                <a:ea typeface="Arial"/>
              </a:rPr>
              <a:t>Автор - Шевах Златопольский, школа Ор-Авнер Гершуни,</a:t>
            </a:r>
            <a:br>
              <a:rPr sz="4000"/>
            </a:br>
            <a:r>
              <a:rPr b="1" lang="ru-RU" sz="4000" spc="-1" strike="noStrike">
                <a:solidFill>
                  <a:srgbClr val="cc9900"/>
                </a:solidFill>
                <a:latin typeface="Arial"/>
                <a:ea typeface="Arial"/>
              </a:rPr>
              <a:t>Алматы.</a:t>
            </a:r>
            <a:r>
              <a:rPr b="0" lang="ru-RU" sz="4400" spc="-1" strike="noStrike">
                <a:solidFill>
                  <a:srgbClr val="cc9900"/>
                </a:solidFill>
                <a:latin typeface="Arial"/>
                <a:ea typeface="Arial"/>
              </a:rPr>
              <a:t> </a:t>
            </a:r>
            <a:br>
              <a:rPr sz="4400"/>
            </a:br>
            <a:br>
              <a:rPr sz="4400"/>
            </a:br>
            <a:r>
              <a:rPr b="0" i="1" lang="ru-RU" sz="2800" spc="-1" strike="noStrike">
                <a:solidFill>
                  <a:srgbClr val="010199"/>
                </a:solidFill>
                <a:latin typeface="Arial"/>
                <a:ea typeface="Arial"/>
              </a:rPr>
              <a:t>При перепечатке материалов не забудьте поставить ссылку на наш сайт:</a:t>
            </a:r>
            <a:br>
              <a:rPr sz="2800"/>
            </a:b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  <a:hlinkClick r:id="rId1"/>
              </a:rPr>
              <a:t>http://www.ort.spb.ru/nesh/njshome.htm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те в книге Берешит стихи 4:3-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 было по прошествии дней, и принес Каин от плодов земли дар Господ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 Эвель, принес также и он от первородных стада своего и от их туков. И призрел Господь на Эвеля и на его да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ираясь на текст, ответьте на вопрос: знали ли люди в самом начале о существовании Единого Вс-вышнег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пишит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те в книге Берешит стихи 4:25-26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 познал Адам еще жену свою, и родила она сына, и нарекла ему имя Шет; потому что поставил мне Б-г потомка другого вместо Эвеля, ибо убил его Каин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 у Шета также родился сын, и он нарек ему имя Энош. Тогда стали нарекать именем Госпо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ветьте в тетради на вопрос: кто такой Энош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чтите комментарий Рабби Шломо Ицхаки (РАШИ)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b2b2b2"/>
                </a:solidFill>
                <a:uFillTx/>
                <a:latin typeface="Arial"/>
              </a:rPr>
              <a:t>«тогда начали»</a:t>
            </a:r>
            <a:br>
              <a:rPr sz="4400"/>
            </a:br>
            <a:r>
              <a:rPr b="0" i="1" lang="he-IL" sz="4400" spc="-1" strike="noStrike">
                <a:solidFill>
                  <a:srgbClr val="66ff33"/>
                </a:solidFill>
                <a:latin typeface="Arial"/>
                <a:cs typeface="Arial"/>
              </a:rPr>
              <a:t>הוחל</a:t>
            </a:r>
            <a:br>
              <a:rPr sz="4400"/>
            </a:br>
            <a:r>
              <a:rPr b="0" i="1" lang="ru-RU" sz="4400" spc="-1" strike="noStrike">
                <a:solidFill>
                  <a:srgbClr val="66ff33"/>
                </a:solidFill>
                <a:latin typeface="Arial"/>
                <a:ea typeface="Arial"/>
              </a:rPr>
              <a:t>со значением</a:t>
            </a:r>
            <a:br>
              <a:rPr sz="4400"/>
            </a:br>
            <a:r>
              <a:rPr b="0" i="1" lang="he-IL" sz="4400" spc="-1" strike="noStrike">
                <a:solidFill>
                  <a:srgbClr val="66ff33"/>
                </a:solidFill>
                <a:latin typeface="Arial"/>
                <a:cs typeface="Arial"/>
              </a:rPr>
              <a:t>חולין</a:t>
            </a:r>
            <a:br>
              <a:rPr sz="4400"/>
            </a:br>
            <a:r>
              <a:rPr b="0" i="1" lang="ru-RU" sz="4400" spc="-1" strike="noStrike">
                <a:solidFill>
                  <a:srgbClr val="66ff33"/>
                </a:solidFill>
                <a:latin typeface="Arial"/>
                <a:ea typeface="Arial"/>
              </a:rPr>
              <a:t>(профанация).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ово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хул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ù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ть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в русском языке от ивритского сл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e-IL" sz="4000" spc="-1" strike="noStrike">
                <a:solidFill>
                  <a:srgbClr val="ffffff"/>
                </a:solidFill>
                <a:latin typeface="Arial"/>
                <a:cs typeface="Arial"/>
              </a:rPr>
              <a:t>חול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(будничный)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антонима сл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he-IL" sz="4000" spc="-1" strike="noStrike">
                <a:solidFill>
                  <a:srgbClr val="ffffff"/>
                </a:solidFill>
                <a:latin typeface="Arial"/>
                <a:cs typeface="Arial"/>
              </a:rPr>
              <a:t>קדוש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(святой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Профанировать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– превращать святое в буднично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15:09:58Z</dcterms:created>
  <dc:creator>Shevah</dc:creator>
  <dc:description/>
  <dc:language>en-US</dc:language>
  <cp:lastModifiedBy>Андрей Ширяев</cp:lastModifiedBy>
  <dcterms:modified xsi:type="dcterms:W3CDTF">2002-10-22T12:02:43Z</dcterms:modified>
  <cp:revision>10</cp:revision>
  <dc:subject/>
  <dc:title>Знание Единого Б-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