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28.png" ContentType="image/png"/>
  <Override PartName="/ppt/media/image10.jpeg" ContentType="image/jpeg"/>
  <Override PartName="/ppt/media/image8.jpeg" ContentType="image/jpeg"/>
  <Override PartName="/ppt/media/image31.png" ContentType="image/png"/>
  <Override PartName="/ppt/media/image13.jpeg" ContentType="image/jpeg"/>
  <Override PartName="/ppt/media/image23.png" ContentType="image/png"/>
  <Override PartName="/ppt/media/image33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34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18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30.png" ContentType="image/png"/>
  <Override PartName="/ppt/media/image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25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63A2-961B-4599-BB3E-B0B2261D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48FE-B9D9-4700-832B-983C5B2E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EF58-607E-40BD-98DB-460ED020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3D8-BA65-4234-BAA7-89E8F569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8346-80CE-411C-A82B-C6306152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C85E-4DF9-45B5-A426-BE7E1BF9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26EE-CB15-4CB9-8CF1-7C934174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C693-A668-4E7F-8696-2FBAB38B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CE82-5854-4F28-96A0-17F781BF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7A66-5ED5-4789-BC80-F32AD0A1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B98C-303E-4226-A1E6-CED80438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30F2-7CAB-46B4-90E7-976C65AA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2D94-8067-4DA1-BD6A-4D30C35B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3774-2B39-4CCB-91A1-FC2EE568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9175-57F6-4EC9-8901-3FA43499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7E15-C6C1-4C2B-83A5-3219762B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ABAF-CC79-4696-9C5F-07AF69CC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3E20-7380-44BB-AF10-64A5AF35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F876-68B5-4CEB-9E08-3D27BC6C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2E5A-5FED-407C-91CF-5902F4E8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65A2-FB15-4EE1-B2E2-5856E871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98BA-7EC7-4B98-9C2C-4D2BB23E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94F-779D-4566-BCE5-9D1441A5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6E8B-A663-496D-84E9-FB64E983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DCFB-030A-49BD-A69A-987C148C8C2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D204-2D66-4575-A3AC-469644A8D40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rt.spb.ru/nesh/njshome.htm" TargetMode="External"/><Relationship Id="rId3" Type="http://schemas.openxmlformats.org/officeDocument/2006/relationships/hyperlink" Target="http://www.ort.spb.ru/nesh/njshome.htm" TargetMode="External"/><Relationship Id="rId4" Type="http://schemas.openxmlformats.org/officeDocument/2006/relationships/hyperlink" Target="http://www.ort.spb.ru/nesh/njshome.htm" TargetMode="External"/><Relationship Id="rId5" Type="http://schemas.openxmlformats.org/officeDocument/2006/relationships/hyperlink" Target="http://www.ort.spb.ru/nesh/njshome.htm" TargetMode="External"/><Relationship Id="rId6" Type="http://schemas.openxmlformats.org/officeDocument/2006/relationships/hyperlink" Target="http://www.ort.spb.ru/nesh/njshome.htm" TargetMode="External"/><Relationship Id="rId7" Type="http://schemas.openxmlformats.org/officeDocument/2006/relationships/hyperlink" Target="http://www.ort.spb.ru/nesh/njshome.htm" TargetMode="External"/><Relationship Id="rId8" Type="http://schemas.openxmlformats.org/officeDocument/2006/relationships/hyperlink" Target="http://www.ort.spb.ru/nesh/njshome.htm" TargetMode="External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2420640"/>
            <a:ext cx="8497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7e7ff"/>
                </a:solidFill>
                <a:latin typeface="Arial"/>
              </a:rPr>
              <a:t>СОТВОРЕНИЕ МИРА</a:t>
            </a:r>
            <a:endParaRPr b="0" lang="en-US" sz="8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1640" y="5634000"/>
            <a:ext cx="73040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кресная школа «Нер Ли»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CD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. Ростов-на-Дон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32508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сказал Всесильный: «Да стекается вода, что под небом в одно место, и да явится суша». И стало так. И назвал Всесильный сушу землею, а стечение вод назвал морями. И увидел Всесильный, что это хорош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4653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ДЕНЬ ТРЕТИ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сказал Всесильный: «Да произрастит земля зелень. Траву семеноносную, дерево плодовитое…». И стало так. И увидел Всесильный, что это хорошо. И был вечер и было утр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55280" y="1052640"/>
            <a:ext cx="748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Вначале сотворения Всесильным неба и земли, когда земля была пуста и нестройна, и тьма над бездною, а дух Всесильного парил над водою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7600" y="26370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o be continued 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4653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ДЕНЬ ЧЕТВЕРТЫ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404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сказал Всесильный: «Да будут светила в пространстве неба для отделения дня от ночи, да будут они знамениями и для времен и для дней и годов. И да будут они светилами в пространстве небесном, чтобы светить на землю…». И стало так… И увидел Всесильный, что это хорошо. И был вечер и было утр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-28440"/>
            <a:ext cx="932508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653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ДЕНЬ ПЯТЫ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сказал Всесильный: «Да воскешит вода кишением живых существ и птица да летают по пространству небесному…»… И увидел Всесильный, что это хорошо. И благословил их Всесильный сказав, «Плодитесь и размножайтесь…». И был вечер и было утр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2120" y="-9360"/>
            <a:ext cx="761976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49360" y="333360"/>
            <a:ext cx="459900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4280" y="0"/>
            <a:ext cx="671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2120" y="657360"/>
            <a:ext cx="761976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62120" y="1400040"/>
            <a:ext cx="761976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371680" y="571680"/>
            <a:ext cx="4400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920" y="203040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сказал Всесильный: «Да произведет земля существа живые по роду их…» И стало так… И увидел Всесильный что это хорош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65400" y="115920"/>
            <a:ext cx="6762600" cy="67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4508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ДЕНЬ ОДИ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азал Всесильный: «Да будет свет», и стал свет. И увидел Всесильный свет, что он хорош и отделил свет от тьмы. И назвал Всесильный свет днем, а тьму назвал ночью. И был вечер и было утр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120" y="38160"/>
            <a:ext cx="761976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62120" y="147600"/>
            <a:ext cx="761976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71800" y="433440"/>
            <a:ext cx="437184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494136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ДЕНЬ ШЕСТО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сказал Всесильный: «Создадим человека по образу нашему, по подобию нашему и да владычествуют они над рыбою морскою и над птицами небесными, и над скотом, и над всею землею…»… И сотворил Всесильный, человека по образу своему…, мужчину и женщину сотворил их. И благословил их… И видел Всесильный все, что он создал и вот весьма хорошо. И был вечер и было утр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340000" y="101520"/>
            <a:ext cx="4317840" cy="671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завершены были небо и земля, и весь сонм их. И завершил Всесильный в седьмой день дело свое, которое он созидал и почил в день седьмой от всего произведения своего, которое он созидал. И благословил Всесильный день седьмой и освятил ег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20760" y="115920"/>
            <a:ext cx="666432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7243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 перепечатке материалов не забудьте поставить ссылку на наше издание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www.ort.spb.ru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nesh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njshome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44370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ДЕНЬ ВТОРО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сказал Всесильный: «Да будет пространство посреди воды…». И назвал Всесильный пространство небом и был вечер и было утр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5T15:48:37Z</dcterms:created>
  <dc:creator>Mama</dc:creator>
  <dc:description/>
  <dc:language>en-US</dc:language>
  <cp:lastModifiedBy>Nina</cp:lastModifiedBy>
  <dcterms:modified xsi:type="dcterms:W3CDTF">2005-06-26T14:04:25Z</dcterms:modified>
  <cp:revision>22</cp:revision>
  <dc:subject/>
  <dc:title>СОТВОРЕНИЕ МИРА</dc:title>
</cp:coreProperties>
</file>